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7A8-F37D-4F39-95ED-2CF20218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562-B4C2-45FD-B646-A2666A9C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B74-4BF0-4E4A-B54E-B30E6AAC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BD1-72BC-4186-9C9A-0C7AC2E2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0027-3D1F-4609-A7F3-704BF628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4651-B8BC-4072-A83C-10F4A0C3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560E-8733-4D1F-B6DF-509B43AA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59C1-9F24-4A20-B7DD-D6711929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93AD-6031-4A24-9022-805E3834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C45A-8F65-456D-A2BE-DC99553A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9500-4539-406A-83AD-805D1CC4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584-D478-4CD4-9E5D-4D9EC12D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3182-E3B1-4F6D-A0A3-CEF83CCF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BB23-2081-4E3B-9FE6-4FF481B0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B541-2560-42B1-AFC6-FF9A6410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4055-9BDF-4F15-AC70-51290202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2700-20A3-441D-A837-52954CA4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99D6-F2B2-4646-92CE-3D2C564D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14FCA-DA14-4362-9434-627031CB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3FB01-D288-49A9-A5DB-246F13F9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74130-E22D-4479-8794-FCDC99B5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93C26-E855-4EBB-A36F-E8051760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AF9F-C1CC-4FBF-9467-51BDA46D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ED7C0-522F-4AE4-8D27-41893E4E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DFE87-9BC5-44FC-A6C9-02415EA3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33D9A-BD2E-4449-94AA-4E25C286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01235-672C-4CD5-A95E-3F9E901D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3D4E3-F7D8-4019-BB47-FCA044C2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2BD08-4C1C-4253-BA2A-C1DDDC00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B627F-0C04-4D6B-8CCC-A52FDEAE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8C6-BF15-4ACA-BAC8-90522497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886-79F7-4500-ACDE-1714F5E7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B69-7CB3-49CF-8179-B9F33A6F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A87-3755-4693-A6EA-255C9C74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451-AD8F-44AB-825E-F06D2E29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5D7-A175-4847-995B-F6269E3B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0C1B-9351-4712-9E15-AFC5CA248138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CC75-724E-405A-8A32-9833F16A64B1}" type="slidenum">
              <a:rPr b="0" lang="ru-RU" sz="1200" spc="-1" strike="noStrike">
                <a:solidFill>
                  <a:srgbClr val="cce1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9D8A-F779-4316-BA98-867BDEADB5CB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08000" y="1125360"/>
            <a:ext cx="8856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Результаты                                пробного ЕГЭ по русскому языку, проведённого 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декабря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21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года и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9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марта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22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250920" y="-1764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тражение позиции автора(К3). Отношение к позиции автора (К4). Смысловая цельность, речевая связность и последовательность изложения (К5). Точность и выразительность речи (К6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8000" y="1569960"/>
          <a:ext cx="8832960" cy="5157720"/>
        </p:xfrm>
        <a:graphic>
          <a:graphicData uri="http://schemas.openxmlformats.org/drawingml/2006/table">
            <a:tbl>
              <a:tblPr/>
              <a:tblGrid>
                <a:gridCol w="430200"/>
                <a:gridCol w="2030400"/>
                <a:gridCol w="703080"/>
                <a:gridCol w="633600"/>
                <a:gridCol w="633240"/>
                <a:gridCol w="776520"/>
                <a:gridCol w="696960"/>
                <a:gridCol w="720720"/>
                <a:gridCol w="720720"/>
                <a:gridCol w="718920"/>
                <a:gridCol w="76860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50920" y="-17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облюдение орфографических норм(К7). Соблюдение пунктуационных норм (К8). Соблюдение грамматических норм (К9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8000" y="1569960"/>
          <a:ext cx="8864640" cy="5157720"/>
        </p:xfrm>
        <a:graphic>
          <a:graphicData uri="http://schemas.openxmlformats.org/drawingml/2006/table">
            <a:tbl>
              <a:tblPr/>
              <a:tblGrid>
                <a:gridCol w="430200"/>
                <a:gridCol w="2030400"/>
                <a:gridCol w="703080"/>
                <a:gridCol w="633600"/>
                <a:gridCol w="631800"/>
                <a:gridCol w="777960"/>
                <a:gridCol w="696960"/>
                <a:gridCol w="720720"/>
                <a:gridCol w="752400"/>
                <a:gridCol w="718920"/>
                <a:gridCol w="76860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-17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облюдение речевых норм(К10). Соблюдение этических норм (К11). Соблюдение фактологической точности в фоновом материале (К12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8000" y="1569960"/>
          <a:ext cx="8856720" cy="5157720"/>
        </p:xfrm>
        <a:graphic>
          <a:graphicData uri="http://schemas.openxmlformats.org/drawingml/2006/table">
            <a:tbl>
              <a:tblPr/>
              <a:tblGrid>
                <a:gridCol w="514440"/>
                <a:gridCol w="2433600"/>
                <a:gridCol w="842760"/>
                <a:gridCol w="758880"/>
                <a:gridCol w="757440"/>
                <a:gridCol w="931680"/>
                <a:gridCol w="835200"/>
                <a:gridCol w="861840"/>
                <a:gridCol w="92088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9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Процент выполнения заданий </a:t>
            </a:r>
            <a:br>
              <a:rPr sz="3200"/>
            </a:b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29 марта 2022 года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68" name="Объект 5"/>
          <p:cNvGraphicFramePr/>
          <p:nvPr/>
        </p:nvGraphicFramePr>
        <p:xfrm>
          <a:off x="406440" y="1001880"/>
          <a:ext cx="8331120" cy="537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001880"/>
                    <a:ext cx="8331120" cy="53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9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1" name="Объект 8"/>
          <p:cNvGraphicFramePr/>
          <p:nvPr/>
        </p:nvGraphicFramePr>
        <p:xfrm>
          <a:off x="406440" y="1146240"/>
          <a:ext cx="8331120" cy="52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146240"/>
                    <a:ext cx="833112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Объект 6"/>
          <p:cNvGraphicFramePr/>
          <p:nvPr/>
        </p:nvGraphicFramePr>
        <p:xfrm>
          <a:off x="406440" y="654120"/>
          <a:ext cx="8331120" cy="57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654120"/>
                    <a:ext cx="8331120" cy="57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71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6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3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9" name="Объект 5"/>
          <p:cNvGraphicFramePr/>
          <p:nvPr/>
        </p:nvGraphicFramePr>
        <p:xfrm>
          <a:off x="406440" y="1290600"/>
          <a:ext cx="8331120" cy="508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290600"/>
                    <a:ext cx="833112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3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2" name="Объект 5"/>
          <p:cNvGraphicFramePr/>
          <p:nvPr/>
        </p:nvGraphicFramePr>
        <p:xfrm>
          <a:off x="406440" y="1433520"/>
          <a:ext cx="8331120" cy="49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433520"/>
                    <a:ext cx="833112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Формулировка проблемы исходного текста (К1), </a:t>
            </a:r>
            <a:br>
              <a:rPr sz="2000"/>
            </a:b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комментарий к сформулированной проблеме (К2)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5" name="Объект 5"/>
          <p:cNvGraphicFramePr/>
          <p:nvPr/>
        </p:nvGraphicFramePr>
        <p:xfrm>
          <a:off x="406440" y="1577880"/>
          <a:ext cx="8331120" cy="47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77880"/>
                    <a:ext cx="83311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79280" y="1052640"/>
            <a:ext cx="878544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 пробном ЕГЭ по русскому языку приняли участ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59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(40) 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человек  из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11( 8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общеобразовательных учреждений  рай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Авторская позиция (А3), отношение к авторской позиции (К4), смысловая цельность, речевая связность и последовательность изложения (К5), </a:t>
            </a:r>
            <a:br>
              <a:rPr sz="1800"/>
            </a:b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точность и выразительность речи (К6)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8" name="Объект 5"/>
          <p:cNvGraphicFramePr/>
          <p:nvPr/>
        </p:nvGraphicFramePr>
        <p:xfrm>
          <a:off x="406440" y="1506600"/>
          <a:ext cx="8331120" cy="48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06600"/>
                    <a:ext cx="8331120" cy="48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Орфографические нормы (К7), пунктуационные нормы (К8), грамматические нормы (К9)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1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Речевые нормы (К10), этические нормы (К11), фактическая точность (К12)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4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755640" y="907920"/>
            <a:ext cx="775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Процент выполнения работы выглядит 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15880" y="2349360"/>
          <a:ext cx="8229600" cy="3718080"/>
        </p:xfrm>
        <a:graphic>
          <a:graphicData uri="http://schemas.openxmlformats.org/drawingml/2006/table">
            <a:tbl>
              <a:tblPr/>
              <a:tblGrid>
                <a:gridCol w="4337280"/>
                <a:gridCol w="389232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порог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нее 16 баллов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 (2) ученика (5,1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(12) учеников (28,8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7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(24) ученика (55,9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 и боле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2)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овек (10,2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692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оличество баллов (первичных), набр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учащимися в разрезе ш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9280" y="1557360"/>
          <a:ext cx="8713800" cy="5122800"/>
        </p:xfrm>
        <a:graphic>
          <a:graphicData uri="http://schemas.openxmlformats.org/drawingml/2006/table">
            <a:tbl>
              <a:tblPr/>
              <a:tblGrid>
                <a:gridCol w="3490920"/>
                <a:gridCol w="1785960"/>
                <a:gridCol w="844560"/>
                <a:gridCol w="863640"/>
                <a:gridCol w="865080"/>
                <a:gridCol w="863640"/>
              </a:tblGrid>
              <a:tr h="87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5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-29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45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58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рхнеусло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тюш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.Моркваш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ого 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108000" y="0"/>
            <a:ext cx="92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тилистический анализ текста. Средства связи предлож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лексическое значение слова. Орфоэп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Лексические нормы. Грамматические нормы (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max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5б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8000" y="1569960"/>
          <a:ext cx="8856720" cy="5027760"/>
        </p:xfrm>
        <a:graphic>
          <a:graphicData uri="http://schemas.openxmlformats.org/drawingml/2006/table">
            <a:tbl>
              <a:tblPr/>
              <a:tblGrid>
                <a:gridCol w="446040"/>
                <a:gridCol w="2073240"/>
                <a:gridCol w="792360"/>
                <a:gridCol w="792000"/>
                <a:gridCol w="792000"/>
                <a:gridCol w="792360"/>
                <a:gridCol w="792000"/>
                <a:gridCol w="792360"/>
                <a:gridCol w="792000"/>
                <a:gridCol w="792360"/>
              </a:tblGrid>
              <a:tr h="5540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10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250920" y="-17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рф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1569960"/>
          <a:ext cx="8640720" cy="5118120"/>
        </p:xfrm>
        <a:graphic>
          <a:graphicData uri="http://schemas.openxmlformats.org/drawingml/2006/table">
            <a:tbl>
              <a:tblPr/>
              <a:tblGrid>
                <a:gridCol w="446040"/>
                <a:gridCol w="2073240"/>
                <a:gridCol w="936720"/>
                <a:gridCol w="863640"/>
                <a:gridCol w="792000"/>
                <a:gridCol w="936720"/>
                <a:gridCol w="863640"/>
                <a:gridCol w="865080"/>
                <a:gridCol w="86364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9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250920" y="-17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унк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569960"/>
          <a:ext cx="8856720" cy="5118120"/>
        </p:xfrm>
        <a:graphic>
          <a:graphicData uri="http://schemas.openxmlformats.org/drawingml/2006/table">
            <a:tbl>
              <a:tblPr/>
              <a:tblGrid>
                <a:gridCol w="457200"/>
                <a:gridCol w="2125440"/>
                <a:gridCol w="1254240"/>
                <a:gridCol w="1033560"/>
                <a:gridCol w="1181160"/>
                <a:gridCol w="885600"/>
                <a:gridCol w="1033560"/>
                <a:gridCol w="88596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8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250920" y="-17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 Анализ текста. Содержание текста, типы речи, значение слов, средства связи пред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редства выразительности речи (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max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4 б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8000" y="1569960"/>
          <a:ext cx="8640720" cy="5118120"/>
        </p:xfrm>
        <a:graphic>
          <a:graphicData uri="http://schemas.openxmlformats.org/drawingml/2006/table">
            <a:tbl>
              <a:tblPr/>
              <a:tblGrid>
                <a:gridCol w="446040"/>
                <a:gridCol w="2289240"/>
                <a:gridCol w="1368360"/>
                <a:gridCol w="1224000"/>
                <a:gridCol w="1297080"/>
                <a:gridCol w="1008000"/>
                <a:gridCol w="100800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7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250920" y="-17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Формулировка проблем исходного текста (К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омментарий к сформулированной проблеме исходного текста (К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8000" y="1569960"/>
          <a:ext cx="8709120" cy="4956120"/>
        </p:xfrm>
        <a:graphic>
          <a:graphicData uri="http://schemas.openxmlformats.org/drawingml/2006/table">
            <a:tbl>
              <a:tblPr/>
              <a:tblGrid>
                <a:gridCol w="439560"/>
                <a:gridCol w="2079720"/>
                <a:gridCol w="720720"/>
                <a:gridCol w="647640"/>
                <a:gridCol w="647640"/>
                <a:gridCol w="720720"/>
                <a:gridCol w="720720"/>
                <a:gridCol w="792360"/>
                <a:gridCol w="647640"/>
                <a:gridCol w="706320"/>
                <a:gridCol w="58608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4:21:33Z</dcterms:created>
  <dc:creator>Елена</dc:creator>
  <dc:description/>
  <dc:language>en-US</dc:language>
  <cp:lastModifiedBy>user</cp:lastModifiedBy>
  <dcterms:modified xsi:type="dcterms:W3CDTF">2022-04-14T19:11:33Z</dcterms:modified>
  <cp:revision>205</cp:revision>
  <dc:subject/>
  <dc:title>Этапы компьютерного моделирования</dc:title>
</cp:coreProperties>
</file>